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2.png" ContentType="image/png"/>
  <Override PartName="/ppt/media/image4.png" ContentType="image/png"/>
  <Override PartName="/ppt/media/image13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52B3-99E5-44B5-B6F3-D9432AA7E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7FBF-2AD6-4D53-975C-85722049C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699E-59AF-4225-BEBC-7F9648222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AE33-8458-4FBF-AC12-97E0889FB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7950D-FF2A-40AA-BF0F-6C40D2FE0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E62BC-B670-4A73-821B-1B1221D35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10CD3-ABB1-4277-B622-3761845BB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6027B-4DF1-4618-BC57-3FD68020C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35E89-FC87-497C-8D2A-C607E534C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0B28A-CE7C-4A24-98EF-FECE4F1B3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D457D-2640-40E4-B4DC-1A6B9C79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243E-40F1-4541-9A76-87A42302D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4D484-2A9D-4C9A-99BF-E2901D4A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6B818-5330-4623-A96F-FAA28932E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5A4C5-FA53-4DCA-BD08-9AABE150E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9A6F5-BEF5-43AF-8AF6-05AE716EB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FF119-A2FA-4C75-901F-595B45C9A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94D13-AA15-4FC3-A048-7920FBD5C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9C41E-9CD5-4742-B33C-3CDAF4A27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A277B-834C-4ABF-9800-9EF3449C9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7F021-1A00-45D1-B50F-9421599F6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89D77-8322-44DB-8F69-9A3B1FEF3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05DF-A28F-4579-B985-BFA196427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24921-F29B-4783-97C1-A3214093A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67934-F87B-43E0-A5F1-620C99556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73F60-4FD7-42CA-B661-616A2FA91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53754-5BFC-4192-AE42-931BEC2C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17173-7465-43A2-A577-0E7897DEE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66C21-EFBB-482F-9E5F-5FDA87F23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DEF0C-664F-4122-90C5-889DD382B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D0757-6CAB-47FE-9173-9A8BBD04B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8290A-8420-4746-B0E0-AE0F9D75D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85329-5DDE-46A3-99F2-E48BCE2CD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9A08-FDD5-44FF-8679-039D468AE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5AB54-9AB0-4B4E-9402-ED39ABC11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5D6A2-E167-4470-A657-90494DA03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B04F0-DD92-43A9-9FD1-EF853B30F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A2267-B7D1-430A-862D-739C090A7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2F33B-0E9B-4E9E-A67D-F1D75686F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EEDC1-BD70-4CCB-A711-F34B3AFD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53F02-EF39-4376-8851-7D6711A66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63F02-D345-4B5F-8711-C598FEBB8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3C2CA-3725-425A-9100-E03F46B42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04D8E-60E9-44D7-9CE1-D4065A8AD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3DAA-D401-48F3-A83B-69AC60D92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1870A6-4582-4681-89C0-488718EEA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F5EAB-47B9-4720-B1FB-A8BE9609D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9CF3C1-6912-4417-8AA6-D1FEB4436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3C8331-0F54-4F75-81D4-80364A42F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A04425-6180-4972-9005-B5EC46B2C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38EF6B-9787-4972-8FD2-8A87FE197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2DD18B-E567-4725-938B-658743545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9B48B-FE12-490E-9036-ABB6F097F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93751-8689-4E60-A355-9BE7DE8A6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27CF32-B9A2-4A8D-B085-879A52498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91FD-16F0-4955-8E2B-1C2B37F55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37ED15-8776-482D-9DF3-285822615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23DC81-F7A5-4343-A3FA-810CABA34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4E2B75-EF42-4BA2-82D8-D0103F2C3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AF186-4D53-4CDE-937D-3E1A53367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5F107E-7DAB-4B2E-821A-55B16DE63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2BDBD-3B12-4E7F-9D96-C8731F2AB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E63CB4-3C48-4C68-86F2-830D2DD73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F397C9-0B94-4801-B6C7-DC381FFB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5D7E3B-5E8F-44D3-87EF-97EC982AC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51FC01-C3B6-4742-9790-099FC94C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2017-BD6C-466E-B34A-4DB54F2C0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100A09-4305-4B41-BE41-D3F2BC01A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B211DC-0A01-42C8-A545-9646C7DEA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594096-F362-45F5-946B-7DDD3D935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DAAFFF-66E2-4508-AC2A-10629CC94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7AA1DD-EA25-4682-A3B5-D05ACB313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1DE4FB-EA31-43D3-A284-9622EA951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F9954E-91B8-4686-9873-08CE82803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9AB36D-4A36-4791-9DD3-3BFA8A4B1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DF051B-98D6-46D0-A939-5998D3AE8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537248-665D-4835-8684-3DA9F1AE7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995C-63EA-4BBF-9371-A58EC547C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F70DAA-86F9-4010-9CA0-97FEE506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FA5AA2-F998-4296-BE9A-13CF7A4D0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65AC5A-DC0B-4D79-8C7C-8BD774EFF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AE83D5-1040-4063-ACB6-B77DDC75F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18E194-F787-4812-9BE3-ABC581F4D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CEC1D2-5624-49C6-9C28-0473FE2DB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14B0DF-D09C-451C-958C-89D212EA1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C3CB74-95C4-419C-ADBE-16D549291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D72A19-4B85-4450-B049-740F9D78D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1F7F23-534D-4287-A615-8ABE44EFB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0DD4-BB75-443C-852C-0D6B26375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F430D1-987C-4AC6-9488-C78E9B5A0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A6E2AF-7AC5-4F6C-B1BA-27822EAD9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0038EE-A3B8-4FD6-B869-C583F7886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AE2502-FD12-42AF-84CA-909BD747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D8C98F-7ED1-4024-9D63-C729E72A4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0801B8-3EBC-4939-8B60-45362B355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6341ED-2278-43D7-BFE2-86C480873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f9eb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13 Triángulo rectángulo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14 Conector recto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666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CFC9D-CD28-4138-80DB-296763125DF3}" type="slidenum"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0 Triángulo rectángulo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cd004e"/>
              </a:gs>
              <a:gs pos="50000">
                <a:srgbClr val="ff4192"/>
              </a:gs>
              <a:gs pos="100000">
                <a:srgbClr val="cd004e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15 Grupo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16 Forma libre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ff9eb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18 Forma libre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19 Forma libre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19 Forma libre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20 Conector recto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666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AC4B5-BB8B-4979-B41C-6F4A2EC3CB29}" type="slidenum">
              <a:rPr b="0" lang="es-E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f9eb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10 Cheurón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e0166b"/>
              </a:gs>
              <a:gs pos="100000">
                <a:srgbClr val="ff7aa9"/>
              </a:gs>
            </a:gsLst>
            <a:lin ang="16200000"/>
          </a:gradFill>
          <a:ln cap="rnd" w="3240">
            <a:solidFill>
              <a:srgbClr val="bc266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15 Cheurón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e0166b"/>
              </a:gs>
              <a:gs pos="100000">
                <a:srgbClr val="ff7aa9"/>
              </a:gs>
            </a:gsLst>
            <a:lin ang="16200000"/>
          </a:gradFill>
          <a:ln cap="rnd" w="3240">
            <a:solidFill>
              <a:srgbClr val="bc266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2d2d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4AEB7-2118-4497-8E33-F01741A14616}" type="slidenum"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f9eb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2d2d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78784-0559-438B-AA55-90D26EE7F30B}" type="slidenum"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666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172E6-F5F7-44A3-91D1-D98303B90A0C}" type="slidenum"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f9eb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2d2d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67A88-B2BA-4227-B5DB-E59A913174C5}" type="slidenum"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666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7B91C-6BD2-484B-B1DA-6C49917568FA}" type="slidenum"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10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f9eb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15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16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16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18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19 Cheurón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e0166b"/>
              </a:gs>
              <a:gs pos="100000">
                <a:srgbClr val="ff7aa9"/>
              </a:gs>
            </a:gsLst>
            <a:lin ang="16200000"/>
          </a:gradFill>
          <a:ln cap="rnd" w="3240">
            <a:solidFill>
              <a:srgbClr val="bc266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20 Cheurón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e0166b"/>
              </a:gs>
              <a:gs pos="100000">
                <a:srgbClr val="ff7aa9"/>
              </a:gs>
            </a:gsLst>
            <a:lin ang="16200000"/>
          </a:gradFill>
          <a:ln cap="rnd" w="3240">
            <a:solidFill>
              <a:srgbClr val="bc266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2d2d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5C269-8B08-48EC-A517-27C304DFA371}" type="slidenum">
              <a:rPr b="0" lang="es-E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es.wikipedia.org/wiki/1936" TargetMode="External"/><Relationship Id="rId3" Type="http://schemas.openxmlformats.org/officeDocument/2006/relationships/hyperlink" Target="http://es.wikipedia.org/wiki/Alemania_Nazi" TargetMode="External"/><Relationship Id="rId4" Type="http://schemas.openxmlformats.org/officeDocument/2006/relationships/hyperlink" Target="http://es.wikipedia.org/wiki/Alemania_Nazi" TargetMode="External"/><Relationship Id="rId5" Type="http://schemas.openxmlformats.org/officeDocument/2006/relationships/hyperlink" Target="http://es.wikipedia.org/wiki/Alemania_Nazi" TargetMode="External"/><Relationship Id="rId6" Type="http://schemas.openxmlformats.org/officeDocument/2006/relationships/hyperlink" Target="http://es.wikipedia.org/wiki/Adolf_Hitler" TargetMode="External"/><Relationship Id="rId7" Type="http://schemas.openxmlformats.org/officeDocument/2006/relationships/hyperlink" Target="http://es.wikipedia.org/wiki/Arca_de_la_Alianza" TargetMode="External"/><Relationship Id="rId8" Type="http://schemas.openxmlformats.org/officeDocument/2006/relationships/hyperlink" Target="http://es.wikipedia.org/wiki/Arca_de_la_Alianza" TargetMode="External"/><Relationship Id="rId9" Type="http://schemas.openxmlformats.org/officeDocument/2006/relationships/hyperlink" Target="http://es.wikipedia.org/wiki/Diez_mandamientos" TargetMode="External"/><Relationship Id="rId10" Type="http://schemas.openxmlformats.org/officeDocument/2006/relationships/hyperlink" Target="http://es.wikipedia.org/wiki/Diez_mandamientos" TargetMode="External"/><Relationship Id="rId11" Type="http://schemas.openxmlformats.org/officeDocument/2006/relationships/hyperlink" Target="http://es.wikipedia.org/wiki/Leyenda" TargetMode="External"/><Relationship Id="rId12" Type="http://schemas.openxmlformats.org/officeDocument/2006/relationships/hyperlink" Target="http://es.wikipedia.org/wiki/Ej&#233;rcito" TargetMode="External"/><Relationship Id="rId13" Type="http://schemas.openxmlformats.org/officeDocument/2006/relationships/hyperlink" Target="http://es.wikipedia.org/wiki/Pol&#237;tica_de_los_Estados_Unidos" TargetMode="External"/><Relationship Id="rId14" Type="http://schemas.openxmlformats.org/officeDocument/2006/relationships/hyperlink" Target="http://es.wikipedia.org/wiki/Arqueolog&#237;a" TargetMode="External"/><Relationship Id="rId15" Type="http://schemas.openxmlformats.org/officeDocument/2006/relationships/hyperlink" Target="http://es.wikipedia.org/wiki/Nueva_Inglaterra" TargetMode="External"/><Relationship Id="rId16" Type="http://schemas.openxmlformats.org/officeDocument/2006/relationships/hyperlink" Target="http://es.wikipedia.org/wiki/Expedici&#243;n" TargetMode="External"/><Relationship Id="rId17" Type="http://schemas.openxmlformats.org/officeDocument/2006/relationships/hyperlink" Target="http://es.wikipedia.org/wiki/&#205;dolo" TargetMode="External"/><Relationship Id="rId18" Type="http://schemas.openxmlformats.org/officeDocument/2006/relationships/hyperlink" Target="http://es.wikipedia.org/wiki/Jungla" TargetMode="External"/><Relationship Id="rId19" Type="http://schemas.openxmlformats.org/officeDocument/2006/relationships/hyperlink" Target="http://es.wikipedia.org/wiki/Sudam&#233;rica" TargetMode="External"/><Relationship Id="rId20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es.wikipedia.org/wiki/Don_Chaffey" TargetMode="External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2 Título" descr=""/>
          <p:cNvPicPr/>
          <p:nvPr/>
        </p:nvPicPr>
        <p:blipFill>
          <a:blip r:embed="rId1"/>
          <a:stretch/>
        </p:blipFill>
        <p:spPr>
          <a:xfrm>
            <a:off x="566640" y="1779480"/>
            <a:ext cx="8242560" cy="1152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5 Marcador de contenido" descr="fnxcfnfn.png"/>
          <p:cNvPicPr/>
          <p:nvPr/>
        </p:nvPicPr>
        <p:blipFill>
          <a:blip r:embed="rId1"/>
          <a:stretch/>
        </p:blipFill>
        <p:spPr>
          <a:xfrm>
            <a:off x="1357200" y="1214280"/>
            <a:ext cx="6715080" cy="4870440"/>
          </a:xfrm>
          <a:prstGeom prst="rect">
            <a:avLst/>
          </a:prstGeom>
          <a:ln w="0">
            <a:noFill/>
          </a:ln>
        </p:spPr>
      </p:pic>
      <p:pic>
        <p:nvPicPr>
          <p:cNvPr id="386" name="6 Título" descr=""/>
          <p:cNvPicPr/>
          <p:nvPr/>
        </p:nvPicPr>
        <p:blipFill>
          <a:blip r:embed="rId2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3 Marcador de contenido" descr="fgnfndfn.png"/>
          <p:cNvPicPr/>
          <p:nvPr/>
        </p:nvPicPr>
        <p:blipFill>
          <a:blip r:embed="rId1"/>
          <a:stretch/>
        </p:blipFill>
        <p:spPr>
          <a:xfrm>
            <a:off x="785880" y="1500120"/>
            <a:ext cx="6786360" cy="4143600"/>
          </a:xfrm>
          <a:prstGeom prst="rect">
            <a:avLst/>
          </a:prstGeom>
          <a:ln w="0">
            <a:noFill/>
          </a:ln>
        </p:spPr>
      </p:pic>
      <p:pic>
        <p:nvPicPr>
          <p:cNvPr id="388" name="2 Título" descr=""/>
          <p:cNvPicPr/>
          <p:nvPr/>
        </p:nvPicPr>
        <p:blipFill>
          <a:blip r:embed="rId2"/>
          <a:stretch/>
        </p:blipFill>
        <p:spPr>
          <a:xfrm>
            <a:off x="225360" y="122400"/>
            <a:ext cx="8467920" cy="1304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6 Marcador de contenido" descr="Indiana1.jpg"/>
          <p:cNvPicPr/>
          <p:nvPr/>
        </p:nvPicPr>
        <p:blipFill>
          <a:blip r:embed="rId1"/>
          <a:stretch/>
        </p:blipFill>
        <p:spPr>
          <a:xfrm>
            <a:off x="1092240" y="1444680"/>
            <a:ext cx="2770200" cy="394164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 txBox="1"/>
          <p:nvPr/>
        </p:nvSpPr>
        <p:spPr>
          <a:xfrm>
            <a:off x="4644720" y="1444320"/>
            <a:ext cx="404172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Es una película de aventuras estadounidense dirigida  por Steven Spielberg,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El guion fue escrito por Lawrence Kasdan, tras llevarse  a cabo una discusión de cuatro días en la cual  Spielberg, Lucas y él definieron los principales  elementos narrativos de la trama. El reparto estuvo  integrado por Harrison Ford, Karen Allen, Paul  Freeman, John Rhys-Davies y Denholm Elliott; el  rodaje fue realizado en Inglaterra, La Rochelle, Túnez,  Hawaii y California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La concepción de la película se originó cuando Lucas  decidió crear una versión moderna de los seriales de  los años 1930 y 1940. La trama describe la hazaña del  arqueólogo  Indiana al evitar que los nazis se vuelvan “ invencibles"; para impedirlo, debe encontrar la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legendaria Arca de la Alianza que las tropas, guiadas  por su enemigo René Belloq, están buscando  sigilosamente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6 Marcador de contenido" descr="fsdgdhy.jpg"/>
          <p:cNvPicPr/>
          <p:nvPr/>
        </p:nvPicPr>
        <p:blipFill>
          <a:blip r:embed="rId1"/>
          <a:stretch/>
        </p:blipFill>
        <p:spPr>
          <a:xfrm>
            <a:off x="457200" y="2073240"/>
            <a:ext cx="4040280" cy="268452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 txBox="1"/>
          <p:nvPr/>
        </p:nvSpPr>
        <p:spPr>
          <a:xfrm>
            <a:off x="4644720" y="1444320"/>
            <a:ext cx="404172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La trama se desarrolla en </a:t>
            </a:r>
            <a:r>
              <a:rPr b="0" lang="es-ES" sz="1200" spc="-1" strike="noStrike" u="sng">
                <a:solidFill>
                  <a:srgbClr val="17bbfd"/>
                </a:solidFill>
                <a:uFillTx/>
                <a:latin typeface="Lucida Sans Unicode"/>
                <a:hlinkClick r:id="rId2"/>
              </a:rPr>
              <a:t>1936</a:t>
            </a: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. Mientras la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17bbfd"/>
                </a:solidFill>
                <a:uFillTx/>
                <a:latin typeface="Lucida Sans Unicode"/>
                <a:hlinkClick r:id="rId3"/>
              </a:rPr>
              <a:t>Alemania Nazi</a:t>
            </a: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 continúa </a:t>
            </a:r>
            <a:r>
              <a:rPr b="0" lang="es-ES" sz="1200" spc="-1" strike="noStrike" u="sng">
                <a:solidFill>
                  <a:srgbClr val="17bbfd"/>
                </a:solidFill>
                <a:uFillTx/>
                <a:latin typeface="Lucida Sans Unicode"/>
                <a:hlinkClick r:id="rId4"/>
              </a:rPr>
              <a:t>expandiendo su reinado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17bbfd"/>
                </a:solidFill>
                <a:uFillTx/>
                <a:latin typeface="Lucida Sans Unicode"/>
                <a:hlinkClick r:id="rId5"/>
              </a:rPr>
              <a:t>de terror</a:t>
            </a: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r>
              <a:rPr b="0" lang="es-ES" sz="1200" spc="-1" strike="noStrike" u="sng">
                <a:solidFill>
                  <a:srgbClr val="17bbfd"/>
                </a:solidFill>
                <a:uFillTx/>
                <a:latin typeface="Lucida Sans Unicode"/>
                <a:hlinkClick r:id="rId6"/>
              </a:rPr>
              <a:t>Adolf Hitler</a:t>
            </a: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 está inmerso en una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búsqueda para localizar la legendaria </a:t>
            </a:r>
            <a:r>
              <a:rPr b="0" lang="es-ES" sz="1200" spc="-1" strike="noStrike" u="sng">
                <a:solidFill>
                  <a:srgbClr val="17bbfd"/>
                </a:solidFill>
                <a:uFillTx/>
                <a:latin typeface="Lucida Sans Unicode"/>
                <a:hlinkClick r:id="rId7"/>
              </a:rPr>
              <a:t>Arca de la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17bbfd"/>
                </a:solidFill>
                <a:uFillTx/>
                <a:latin typeface="Lucida Sans Unicode"/>
                <a:hlinkClick r:id="rId8"/>
              </a:rPr>
              <a:t>Alianza</a:t>
            </a: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 —en la que se hallan guardados los </a:t>
            </a:r>
            <a:r>
              <a:rPr b="0" lang="es-ES" sz="1200" spc="-1" strike="noStrike" u="sng">
                <a:solidFill>
                  <a:srgbClr val="17bbfd"/>
                </a:solidFill>
                <a:uFillTx/>
                <a:latin typeface="Lucida Sans Unicode"/>
                <a:hlinkClick r:id="rId9"/>
              </a:rPr>
              <a:t>diez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17bbfd"/>
                </a:solidFill>
                <a:uFillTx/>
                <a:latin typeface="Lucida Sans Unicode"/>
                <a:hlinkClick r:id="rId10"/>
              </a:rPr>
              <a:t>mandamientos</a:t>
            </a: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, cuyos poderes sobrenaturales, de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acuerdo a una </a:t>
            </a:r>
            <a:r>
              <a:rPr b="0" lang="es-ES" sz="1200" spc="-1" strike="noStrike" u="sng">
                <a:solidFill>
                  <a:srgbClr val="17bbfd"/>
                </a:solidFill>
                <a:uFillTx/>
                <a:latin typeface="Lucida Sans Unicode"/>
                <a:hlinkClick r:id="rId11"/>
              </a:rPr>
              <a:t>leyenda</a:t>
            </a: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, pueden eliminar a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17bbfd"/>
                </a:solidFill>
                <a:uFillTx/>
                <a:latin typeface="Lucida Sans Unicode"/>
                <a:hlinkClick r:id="rId12"/>
              </a:rPr>
              <a:t>ejércitos</a:t>
            </a: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 en su totalidad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El </a:t>
            </a:r>
            <a:r>
              <a:rPr b="0" lang="es-ES" sz="1200" spc="-1" strike="noStrike" u="sng">
                <a:solidFill>
                  <a:srgbClr val="17bbfd"/>
                </a:solidFill>
                <a:uFillTx/>
                <a:latin typeface="Lucida Sans Unicode"/>
                <a:hlinkClick r:id="rId13"/>
              </a:rPr>
              <a:t>gobierno de los Estados Unidos</a:t>
            </a: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 quiere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encontrar el Arca antes que Hitler y para ello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decide encontrarse con el Dr. Indiana Jones, un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profesor de </a:t>
            </a:r>
            <a:r>
              <a:rPr b="0" lang="es-ES" sz="1200" spc="-1" strike="noStrike" u="sng">
                <a:solidFill>
                  <a:srgbClr val="17bbfd"/>
                </a:solidFill>
                <a:uFillTx/>
                <a:latin typeface="Lucida Sans Unicode"/>
                <a:hlinkClick r:id="rId14"/>
              </a:rPr>
              <a:t>arqueología</a:t>
            </a: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 de una pequeña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universidad en </a:t>
            </a:r>
            <a:r>
              <a:rPr b="0" lang="es-ES" sz="1200" spc="-1" strike="noStrike" u="sng">
                <a:solidFill>
                  <a:srgbClr val="17bbfd"/>
                </a:solidFill>
                <a:uFillTx/>
                <a:latin typeface="Lucida Sans Unicode"/>
                <a:hlinkClick r:id="rId15"/>
              </a:rPr>
              <a:t>Nueva Inglaterra</a:t>
            </a: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, quien acaba de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regresar de una fallida </a:t>
            </a:r>
            <a:r>
              <a:rPr b="0" lang="es-ES" sz="1200" spc="-1" strike="noStrike" u="sng">
                <a:solidFill>
                  <a:srgbClr val="17bbfd"/>
                </a:solidFill>
                <a:uFillTx/>
                <a:latin typeface="Lucida Sans Unicode"/>
                <a:hlinkClick r:id="rId16"/>
              </a:rPr>
              <a:t>expedición</a:t>
            </a: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 que tenía como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objetivo el recuperar un </a:t>
            </a:r>
            <a:r>
              <a:rPr b="0" lang="es-ES" sz="1200" spc="-1" strike="noStrike" u="sng">
                <a:solidFill>
                  <a:srgbClr val="17bbfd"/>
                </a:solidFill>
                <a:uFillTx/>
                <a:latin typeface="Lucida Sans Unicode"/>
                <a:hlinkClick r:id="rId17"/>
              </a:rPr>
              <a:t>ídolo</a:t>
            </a: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 sagrado de las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17bbfd"/>
                </a:solidFill>
                <a:uFillTx/>
                <a:latin typeface="Lucida Sans Unicode"/>
                <a:hlinkClick r:id="rId18"/>
              </a:rPr>
              <a:t>junglas</a:t>
            </a: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 de </a:t>
            </a:r>
            <a:r>
              <a:rPr b="0" lang="es-ES" sz="1200" spc="-1" strike="noStrike" u="sng">
                <a:solidFill>
                  <a:srgbClr val="17bbfd"/>
                </a:solidFill>
                <a:uFillTx/>
                <a:latin typeface="Lucida Sans Unicode"/>
                <a:hlinkClick r:id="rId19"/>
              </a:rPr>
              <a:t>Sudamérica</a:t>
            </a: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6 Marcador de contenido" descr="indiana-jones-en-busca-del-arca-perdida-cd2-avi_001197360.jpg"/>
          <p:cNvPicPr/>
          <p:nvPr/>
        </p:nvPicPr>
        <p:blipFill>
          <a:blip r:embed="rId1"/>
          <a:stretch/>
        </p:blipFill>
        <p:spPr>
          <a:xfrm>
            <a:off x="496800" y="2316240"/>
            <a:ext cx="3962520" cy="220032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 txBox="1"/>
          <p:nvPr/>
        </p:nvSpPr>
        <p:spPr>
          <a:xfrm>
            <a:off x="4643280" y="2285640"/>
            <a:ext cx="404208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Lucida Sans Unicode"/>
              </a:rPr>
              <a:t>Escenas inolvidables cómo el pozo de almas 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Lucida Sans Unicode"/>
              </a:rPr>
              <a:t>(un lugar infestado de serpientes, dónde 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Lucida Sans Unicode"/>
              </a:rPr>
              <a:t>literalmente para el rodaje había miles de 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Lucida Sans Unicode"/>
              </a:rPr>
              <a:t>serpientes reales), la pelea con el gigantón 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Lucida Sans Unicode"/>
              </a:rPr>
              <a:t>nazi bajo el avión en marcha o Marion 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Lucida Sans Unicode"/>
              </a:rPr>
              <a:t>atrapada entre los cestos forman ya  parte de 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Lucida Sans Unicode"/>
              </a:rPr>
              <a:t>la memoria colectiva</a:t>
            </a:r>
            <a:r>
              <a:rPr b="0" lang="es-ES" sz="24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3 Marcador de contenido" descr="indiana-jones-en-busca-del-arca-perdida-cd2-avi_002754760.jpg"/>
          <p:cNvPicPr/>
          <p:nvPr/>
        </p:nvPicPr>
        <p:blipFill>
          <a:blip r:embed="rId1"/>
          <a:stretch/>
        </p:blipFill>
        <p:spPr>
          <a:xfrm>
            <a:off x="142920" y="1285920"/>
            <a:ext cx="8501040" cy="4500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1 Título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8 Marcador de contenido" descr="jason1.jpg"/>
          <p:cNvPicPr/>
          <p:nvPr/>
        </p:nvPicPr>
        <p:blipFill>
          <a:blip r:embed="rId1"/>
          <a:stretch/>
        </p:blipFill>
        <p:spPr>
          <a:xfrm>
            <a:off x="1163520" y="1509840"/>
            <a:ext cx="2629080" cy="380988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 txBox="1"/>
          <p:nvPr/>
        </p:nvSpPr>
        <p:spPr>
          <a:xfrm>
            <a:off x="4643280" y="1428480"/>
            <a:ext cx="404208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300" spc="-1" strike="noStrike">
                <a:solidFill>
                  <a:srgbClr val="000000"/>
                </a:solidFill>
                <a:latin typeface="Lucida Sans Unicode"/>
              </a:rPr>
              <a:t>Jasón y los argonautas</a:t>
            </a:r>
            <a:r>
              <a:rPr b="0" lang="es-ES" sz="1300" spc="-1" strike="noStrike">
                <a:solidFill>
                  <a:srgbClr val="000000"/>
                </a:solidFill>
                <a:latin typeface="Lucida Sans Unicode"/>
              </a:rPr>
              <a:t> es una película 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Lucida Sans Unicode"/>
              </a:rPr>
              <a:t>inglesa dirigida por </a:t>
            </a:r>
            <a:r>
              <a:rPr b="0" lang="es-ES" sz="1300" spc="-1" strike="noStrike" u="sng">
                <a:solidFill>
                  <a:srgbClr val="17bbfd"/>
                </a:solidFill>
                <a:uFillTx/>
                <a:latin typeface="Lucida Sans Unicode"/>
                <a:hlinkClick r:id="rId2"/>
              </a:rPr>
              <a:t>Don Chaffey</a:t>
            </a:r>
            <a:r>
              <a:rPr b="0" lang="es-ES" sz="1300" spc="-1" strike="noStrike">
                <a:solidFill>
                  <a:srgbClr val="000000"/>
                </a:solidFill>
                <a:latin typeface="Lucida Sans Unicode"/>
              </a:rPr>
              <a:t> en el 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Lucida Sans Unicode"/>
              </a:rPr>
              <a:t>año de 1963. La idea original, sinopsis y 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Lucida Sans Unicode"/>
              </a:rPr>
              <a:t>efectos especiales pertenecen a Ray 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Lucida Sans Unicode"/>
              </a:rPr>
              <a:t>Harryhausen. A pesar de estar 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Lucida Sans Unicode"/>
              </a:rPr>
              <a:t>considerado el mejor trabajo del artista, 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Lucida Sans Unicode"/>
              </a:rPr>
              <a:t>y hasta hoy, el más rentable, en su día 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Lucida Sans Unicode"/>
              </a:rPr>
              <a:t>Jasón y los Argonautas recaudó muy 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Lucida Sans Unicode"/>
              </a:rPr>
              <a:t>poco en taquilla. Harryhausen siempre 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Lucida Sans Unicode"/>
              </a:rPr>
              <a:t>se ha apenado por no ser nominado al 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Lucida Sans Unicode"/>
              </a:rPr>
              <a:t>óscar de efectos especiales en la que 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Lucida Sans Unicode"/>
              </a:rPr>
              <a:t>muchos consideran una secuencia 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Lucida Sans Unicode"/>
              </a:rPr>
              <a:t>cumbre de la historia del cine, el 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Lucida Sans Unicode"/>
              </a:rPr>
              <a:t>enfrentamiento con los 7 esqueletos. La 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Lucida Sans Unicode"/>
              </a:rPr>
              <a:t>película trata de alejarse de los 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Lucida Sans Unicode"/>
              </a:rPr>
              <a:t>parámetros del "péplum" con grandes 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Lucida Sans Unicode"/>
              </a:rPr>
              <a:t>dosis de aventuras y bestias 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Lucida Sans Unicode"/>
              </a:rPr>
              <a:t>mitológicas, respetando fielmente la 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Lucida Sans Unicode"/>
              </a:rPr>
              <a:t>leyenda y contando con excelentes 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Lucida Sans Unicode"/>
              </a:rPr>
              <a:t>actores.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8 Marcador de contenido" descr="dgdh.jpg"/>
          <p:cNvPicPr/>
          <p:nvPr/>
        </p:nvPicPr>
        <p:blipFill>
          <a:blip r:embed="rId1"/>
          <a:stretch/>
        </p:blipFill>
        <p:spPr>
          <a:xfrm>
            <a:off x="1316160" y="1444680"/>
            <a:ext cx="2322360" cy="394164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 txBox="1"/>
          <p:nvPr/>
        </p:nvSpPr>
        <p:spPr>
          <a:xfrm>
            <a:off x="4571640" y="1357200"/>
            <a:ext cx="4041720" cy="40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Jasón está destinado a ser Rey de Tesalia . Para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conseguirlo se hace pasar por noble y diciéndole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que el tirano se rendirá si encuentra el místico y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misterioso Vellocino de oro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Jasón ha de conseguir una muy buena tripulación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En la Cólquide son muy bien recibidos y Jasón se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enamora de Medea, la hija del rey Aeetes.. En la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oscuridad de la noche, se escabullen y Jasón,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junto con Castor y Peleo, se dirigen hacia el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Vellocino. El mágico artefacto esta protegido por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La Hydra de 7 cabezas. En ese momento Aeetes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conjura el poder de Hécate y, usando los dientes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de la Hydra, invoca siete guerreros esqueleto de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terrible fuerza y agilidad. Tiene lugar una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impresionante batalla en la que Castor y Peleo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mueren. Finalmente Jasón se lanza al agua y los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esqueletos, en su persecución, caen y se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destrozan contra el acantilado. La aventura no ha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terminado pero Zeus decide que les dará "un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momento de paz" al joven aventurero Jasón y sus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argonautas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3 Marcador de contenido" descr="hfhhfghhh.png"/>
          <p:cNvPicPr/>
          <p:nvPr/>
        </p:nvPicPr>
        <p:blipFill>
          <a:blip r:embed="rId1"/>
          <a:stretch/>
        </p:blipFill>
        <p:spPr>
          <a:xfrm>
            <a:off x="1357200" y="1285920"/>
            <a:ext cx="6215040" cy="4429080"/>
          </a:xfrm>
          <a:prstGeom prst="rect">
            <a:avLst/>
          </a:prstGeom>
          <a:ln w="0">
            <a:noFill/>
          </a:ln>
        </p:spPr>
      </p:pic>
      <p:pic>
        <p:nvPicPr>
          <p:cNvPr id="384" name="4 Título" descr=""/>
          <p:cNvPicPr/>
          <p:nvPr/>
        </p:nvPicPr>
        <p:blipFill>
          <a:blip r:embed="rId2"/>
          <a:stretch/>
        </p:blipFill>
        <p:spPr>
          <a:xfrm>
            <a:off x="225360" y="122400"/>
            <a:ext cx="8467920" cy="1304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0T19:59:29Z</dcterms:created>
  <dc:creator>SiemprePensandoEnTí</dc:creator>
  <dc:description/>
  <dc:language>en-US</dc:language>
  <cp:lastModifiedBy>SiemprePensandoEnTí</cp:lastModifiedBy>
  <dcterms:modified xsi:type="dcterms:W3CDTF">2010-01-26T15:14:07Z</dcterms:modified>
  <cp:revision>15</cp:revision>
  <dc:subject/>
  <dc:title>Jasón y los argonautas </dc:title>
</cp:coreProperties>
</file>